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69D-5EEE-4BBD-98C5-19DB52D5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462-035A-4DBC-82CF-78BDDDE7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B0B-2D27-44DB-8F0C-C421385B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601-FA8F-4BCF-B446-2BE9A2D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62C4-2D72-4518-8E78-B9EB9EE1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A449-1171-4832-B420-C1FB0B64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DD6-6C07-41C3-A392-F4BCF234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D768-3484-4270-B1F2-C456A2A0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E232-6FBE-41F0-9FC8-8585634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630-AF16-4D8A-87B1-86EF718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6A3E-76B0-4DD3-86AE-5198E76B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5BA-D0D5-4224-92A4-95ED806B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A5CF-0794-4DEB-B46A-C8DBA05E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53F7-6A67-411C-93CE-14523DF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C8B-61A3-4C75-84BF-AE5B7ABB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793C-AB9A-4C9C-9BBF-A2528EF8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6777-6E7D-4DDF-9647-2B78D462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CEC8-4DC5-4FD1-8876-1F039143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F5F6-8421-4A1D-970D-C3175443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B5D6-06BF-49CB-AD57-CBFE6655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79B2-5517-4F20-AB8B-91344BDB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BED7-320E-401E-87BB-A9C7A838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818-99BB-4D44-B584-78BB2E8B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1316-1263-4AB9-BB5C-3D59FABD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61FF-36EF-44C2-86FB-C354F3E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8559-61D6-4DC7-B239-373C058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8E01-28F4-419A-95C3-4317948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C500-44F0-4C07-8964-D789440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A437-7215-4BAA-869D-D88ECF6F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1820-A54A-4630-8240-AECF3C41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623D-1E23-470E-AE69-E8DF03D2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A04C4-5A3C-4541-BB55-C7C8CF3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94F6-E668-48C3-BAC0-8FF744E9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80B-3608-4DC7-A67C-D2276607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A0AF-9A57-486F-988A-6AC93C48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DE841-BB4E-4FD0-883F-0D249F9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E968C-4C89-4C41-8015-8FD7F7C5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DEE2-42A2-4E4E-9228-46F4347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3B1D-8E5D-4EBF-9E5F-F577FB08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DFCD-6480-43CD-9D08-434F212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8DF4-8ECA-4B82-91F9-AAC49B53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47DB-6B95-4D59-86D6-2ED2EB21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8510-E840-40B8-8BF4-9DFA1F6B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D7D-E442-4740-AABA-37F6E444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709-F2C1-4394-A6A7-FD7D4670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1DE-6065-4394-9286-090CFE9C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9CA-B7F3-4C4A-A46B-65C6D42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BE6-1952-4DB9-8783-8F86F23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A252-5D58-4577-BBEE-BF739B7032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B852-CACF-4A11-94FD-ADA1253373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357E-E809-40A8-881A-DE1F3BB6421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849A-BCEE-4DB0-B7D7-C503786A1C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341280" y="1365120"/>
            <a:ext cx="83692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4 CuadroTexto"/>
          <p:cNvSpPr/>
          <p:nvPr/>
        </p:nvSpPr>
        <p:spPr>
          <a:xfrm>
            <a:off x="6286680" y="107172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entana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99" name="6 Conector recto de flecha"/>
          <p:cNvCxnSpPr>
            <a:stCxn id="198" idx="1"/>
          </p:cNvCxnSpPr>
          <p:nvPr/>
        </p:nvCxnSpPr>
        <p:spPr>
          <a:xfrm flipH="1" flipV="1">
            <a:off x="3514320" y="931320"/>
            <a:ext cx="2772720" cy="324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7 CuadroTexto"/>
          <p:cNvSpPr/>
          <p:nvPr/>
        </p:nvSpPr>
        <p:spPr>
          <a:xfrm>
            <a:off x="357120" y="2571840"/>
            <a:ext cx="171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bjetos crea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1" name="9 Conector recto de flecha"/>
          <p:cNvCxnSpPr>
            <a:stCxn id="200" idx="0"/>
          </p:cNvCxnSpPr>
          <p:nvPr/>
        </p:nvCxnSpPr>
        <p:spPr>
          <a:xfrm flipV="1">
            <a:off x="1212840" y="1856520"/>
            <a:ext cx="2160" cy="71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10 CuadroTexto"/>
          <p:cNvSpPr/>
          <p:nvPr/>
        </p:nvSpPr>
        <p:spPr>
          <a:xfrm>
            <a:off x="71280" y="550080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entana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3" name="12 Conector recto de flecha"/>
          <p:cNvCxnSpPr>
            <a:stCxn id="202" idx="0"/>
          </p:cNvCxnSpPr>
          <p:nvPr/>
        </p:nvCxnSpPr>
        <p:spPr>
          <a:xfrm flipH="1" flipV="1">
            <a:off x="856800" y="3999960"/>
            <a:ext cx="357840" cy="150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13 CuadroTexto"/>
          <p:cNvSpPr/>
          <p:nvPr/>
        </p:nvSpPr>
        <p:spPr>
          <a:xfrm>
            <a:off x="5286240" y="1643040"/>
            <a:ext cx="857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cal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14 CuadroTexto"/>
          <p:cNvSpPr/>
          <p:nvPr/>
        </p:nvSpPr>
        <p:spPr>
          <a:xfrm>
            <a:off x="5286240" y="2714760"/>
            <a:ext cx="785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tri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15 CuadroTexto"/>
          <p:cNvSpPr/>
          <p:nvPr/>
        </p:nvSpPr>
        <p:spPr>
          <a:xfrm>
            <a:off x="5286240" y="3857760"/>
            <a:ext cx="250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peración escalar matri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16 CuadroTexto"/>
          <p:cNvSpPr/>
          <p:nvPr/>
        </p:nvSpPr>
        <p:spPr>
          <a:xfrm>
            <a:off x="5286240" y="492912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peración de matric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17 CuadroTexto"/>
          <p:cNvSpPr/>
          <p:nvPr/>
        </p:nvSpPr>
        <p:spPr>
          <a:xfrm>
            <a:off x="5286240" y="5929200"/>
            <a:ext cx="1643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to pu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19 Conector recto de flecha"/>
          <p:cNvCxnSpPr>
            <a:stCxn id="204" idx="1"/>
          </p:cNvCxnSpPr>
          <p:nvPr/>
        </p:nvCxnSpPr>
        <p:spPr>
          <a:xfrm flipH="1">
            <a:off x="3071160" y="1826280"/>
            <a:ext cx="22150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22 Conector recto de flecha"/>
          <p:cNvCxnSpPr>
            <a:stCxn id="205" idx="1"/>
          </p:cNvCxnSpPr>
          <p:nvPr/>
        </p:nvCxnSpPr>
        <p:spPr>
          <a:xfrm flipH="1">
            <a:off x="3928680" y="2898720"/>
            <a:ext cx="1357920" cy="10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24 Conector recto de flecha"/>
          <p:cNvCxnSpPr>
            <a:stCxn id="206" idx="1"/>
          </p:cNvCxnSpPr>
          <p:nvPr/>
        </p:nvCxnSpPr>
        <p:spPr>
          <a:xfrm flipH="1">
            <a:off x="3857400" y="4041720"/>
            <a:ext cx="142920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26 Conector recto de flecha"/>
          <p:cNvCxnSpPr>
            <a:stCxn id="207" idx="1"/>
          </p:cNvCxnSpPr>
          <p:nvPr/>
        </p:nvCxnSpPr>
        <p:spPr>
          <a:xfrm flipH="1" flipV="1">
            <a:off x="3499560" y="5071680"/>
            <a:ext cx="178668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28 Conector recto de flecha"/>
          <p:cNvCxnSpPr>
            <a:stCxn id="208" idx="1"/>
          </p:cNvCxnSpPr>
          <p:nvPr/>
        </p:nvCxnSpPr>
        <p:spPr>
          <a:xfrm flipH="1" flipV="1">
            <a:off x="3857400" y="6071760"/>
            <a:ext cx="142920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5429160" y="1357200"/>
            <a:ext cx="2000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trices especia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5 CuadroTexto"/>
          <p:cNvSpPr/>
          <p:nvPr/>
        </p:nvSpPr>
        <p:spPr>
          <a:xfrm>
            <a:off x="5429160" y="3071880"/>
            <a:ext cx="2786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ción útil de matriz fil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6 CuadroTexto"/>
          <p:cNvSpPr/>
          <p:nvPr/>
        </p:nvSpPr>
        <p:spPr>
          <a:xfrm>
            <a:off x="5429160" y="4857840"/>
            <a:ext cx="2571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unciones sobre matric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0" name="8 Conector recto de flecha"/>
          <p:cNvCxnSpPr>
            <a:stCxn id="217" idx="1"/>
          </p:cNvCxnSpPr>
          <p:nvPr/>
        </p:nvCxnSpPr>
        <p:spPr>
          <a:xfrm flipH="1" flipV="1">
            <a:off x="3357720" y="1499760"/>
            <a:ext cx="207180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10 Conector recto de flecha"/>
          <p:cNvCxnSpPr>
            <a:stCxn id="217" idx="1"/>
          </p:cNvCxnSpPr>
          <p:nvPr/>
        </p:nvCxnSpPr>
        <p:spPr>
          <a:xfrm flipH="1">
            <a:off x="3357720" y="1540440"/>
            <a:ext cx="2071800" cy="959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12 Conector recto de flecha"/>
          <p:cNvCxnSpPr>
            <a:stCxn id="218" idx="1"/>
          </p:cNvCxnSpPr>
          <p:nvPr/>
        </p:nvCxnSpPr>
        <p:spPr>
          <a:xfrm flipH="1">
            <a:off x="3428640" y="3255840"/>
            <a:ext cx="20008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14 Conector recto de flecha"/>
          <p:cNvCxnSpPr>
            <a:stCxn id="219" idx="1"/>
          </p:cNvCxnSpPr>
          <p:nvPr/>
        </p:nvCxnSpPr>
        <p:spPr>
          <a:xfrm flipH="1" flipV="1">
            <a:off x="3214080" y="4142880"/>
            <a:ext cx="2215080" cy="899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16 Conector recto de flecha"/>
          <p:cNvCxnSpPr>
            <a:stCxn id="219" idx="1"/>
          </p:cNvCxnSpPr>
          <p:nvPr/>
        </p:nvCxnSpPr>
        <p:spPr>
          <a:xfrm flipH="1">
            <a:off x="3214080" y="5041800"/>
            <a:ext cx="22150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5 CuadroTexto"/>
          <p:cNvSpPr/>
          <p:nvPr/>
        </p:nvSpPr>
        <p:spPr>
          <a:xfrm>
            <a:off x="2214720" y="3143160"/>
            <a:ext cx="207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ditor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9" name="7 Conector recto de flecha"/>
          <p:cNvCxnSpPr/>
          <p:nvPr/>
        </p:nvCxnSpPr>
        <p:spPr>
          <a:xfrm flipH="1" flipV="1">
            <a:off x="142560" y="570960"/>
            <a:ext cx="2358000" cy="257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9 Conector recto de flecha"/>
          <p:cNvCxnSpPr/>
          <p:nvPr/>
        </p:nvCxnSpPr>
        <p:spPr>
          <a:xfrm flipH="1">
            <a:off x="1642320" y="3499920"/>
            <a:ext cx="857880" cy="264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4 CuadroTexto"/>
          <p:cNvSpPr/>
          <p:nvPr/>
        </p:nvSpPr>
        <p:spPr>
          <a:xfrm>
            <a:off x="6357960" y="5214960"/>
            <a:ext cx="221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ción de fun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5 CuadroTexto"/>
          <p:cNvSpPr/>
          <p:nvPr/>
        </p:nvSpPr>
        <p:spPr>
          <a:xfrm>
            <a:off x="785880" y="1714680"/>
            <a:ext cx="1785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Resultado gráf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6 CuadroTexto"/>
          <p:cNvSpPr/>
          <p:nvPr/>
        </p:nvSpPr>
        <p:spPr>
          <a:xfrm>
            <a:off x="214200" y="2428920"/>
            <a:ext cx="2071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t de instrucci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7 Elipse"/>
          <p:cNvSpPr/>
          <p:nvPr/>
        </p:nvSpPr>
        <p:spPr>
          <a:xfrm>
            <a:off x="2786040" y="214200"/>
            <a:ext cx="35719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8 CuadroTexto"/>
          <p:cNvSpPr/>
          <p:nvPr/>
        </p:nvSpPr>
        <p:spPr>
          <a:xfrm>
            <a:off x="142920" y="642960"/>
            <a:ext cx="2571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r “lugar de trabajo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9" name="10 Forma"/>
          <p:cNvCxnSpPr>
            <a:stCxn id="238" idx="0"/>
          </p:cNvCxnSpPr>
          <p:nvPr/>
        </p:nvCxnSpPr>
        <p:spPr>
          <a:xfrm flipH="1" flipV="1" rot="5400000">
            <a:off x="1928520" y="-143280"/>
            <a:ext cx="286560" cy="1286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12 Conector recto de flecha"/>
          <p:cNvCxnSpPr>
            <a:stCxn id="235" idx="3"/>
          </p:cNvCxnSpPr>
          <p:nvPr/>
        </p:nvCxnSpPr>
        <p:spPr>
          <a:xfrm>
            <a:off x="2571480" y="1898640"/>
            <a:ext cx="214380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16 Conector recto de flecha"/>
          <p:cNvCxnSpPr>
            <a:stCxn id="234" idx="1"/>
          </p:cNvCxnSpPr>
          <p:nvPr/>
        </p:nvCxnSpPr>
        <p:spPr>
          <a:xfrm flipH="1" flipV="1">
            <a:off x="5571360" y="5000400"/>
            <a:ext cx="786600" cy="39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20 Conector recto de flecha"/>
          <p:cNvCxnSpPr/>
          <p:nvPr/>
        </p:nvCxnSpPr>
        <p:spPr>
          <a:xfrm flipH="1">
            <a:off x="1569240" y="2785680"/>
            <a:ext cx="2520" cy="429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5 CuadroTexto"/>
          <p:cNvSpPr/>
          <p:nvPr/>
        </p:nvSpPr>
        <p:spPr>
          <a:xfrm>
            <a:off x="2571840" y="4071960"/>
            <a:ext cx="3071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n caso de problemas, la mejor ayuda… lej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7" name="7 Conector recto de flecha"/>
          <p:cNvCxnSpPr/>
          <p:nvPr/>
        </p:nvCxnSpPr>
        <p:spPr>
          <a:xfrm flipV="1">
            <a:off x="3141720" y="1213920"/>
            <a:ext cx="2160" cy="2859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9 Conector recto de flecha"/>
          <p:cNvCxnSpPr>
            <a:stCxn id="246" idx="1"/>
          </p:cNvCxnSpPr>
          <p:nvPr/>
        </p:nvCxnSpPr>
        <p:spPr>
          <a:xfrm flipH="1">
            <a:off x="928440" y="4486680"/>
            <a:ext cx="1643760" cy="187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4721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70c0"/>
                </a:solidFill>
                <a:latin typeface="Calibri"/>
              </a:rPr>
              <a:t>Ejemplo: Michaelis - Ment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428840"/>
            <a:ext cx="26146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Modelo Cinétic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"/>
              <p:cNvSpPr txBox="1"/>
              <p:nvPr/>
            </p:nvSpPr>
            <p:spPr>
              <a:xfrm>
                <a:off x="500040" y="2071800"/>
                <a:ext cx="220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500040" y="2643120"/>
                <a:ext cx="22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2</m:t>
                        </m:r>
                      </m:e>
                    </m:acc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500040" y="3214800"/>
                <a:ext cx="2224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3</m:t>
                        </m:r>
                      </m:e>
                    </m:acc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121280" y="1714680"/>
                <a:ext cx="2736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4049640" y="2320920"/>
                <a:ext cx="4094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121280" y="2928960"/>
                <a:ext cx="3879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3"/>
              <p:cNvSpPr txBox="1"/>
              <p:nvPr/>
            </p:nvSpPr>
            <p:spPr>
              <a:xfrm>
                <a:off x="4121280" y="3500280"/>
                <a:ext cx="1593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17 Flecha derecha"/>
          <p:cNvSpPr/>
          <p:nvPr/>
        </p:nvSpPr>
        <p:spPr>
          <a:xfrm>
            <a:off x="3000240" y="2500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2 Marcador de contenido"/>
          <p:cNvSpPr/>
          <p:nvPr/>
        </p:nvSpPr>
        <p:spPr>
          <a:xfrm>
            <a:off x="428760" y="4286160"/>
            <a:ext cx="6429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Cuasi Estacionalida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19 Flecha derecha"/>
          <p:cNvSpPr/>
          <p:nvPr/>
        </p:nvSpPr>
        <p:spPr>
          <a:xfrm>
            <a:off x="3000240" y="53578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1071720" y="4929120"/>
                <a:ext cx="1379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642960" y="6000840"/>
                <a:ext cx="235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o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4500720" y="4929120"/>
                <a:ext cx="41432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9"/>
              <p:cNvSpPr txBox="1"/>
              <p:nvPr/>
            </p:nvSpPr>
            <p:spPr>
              <a:xfrm>
                <a:off x="4500720" y="5872320"/>
                <a:ext cx="1643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4456440" y="73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4464000" y="1210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4721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70c0"/>
                </a:solidFill>
                <a:latin typeface="Calibri"/>
              </a:rPr>
              <a:t>Resultados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28840"/>
            <a:ext cx="26146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Modelo Cinétic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4456440" y="73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4464000" y="1210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13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/>
          <p:cNvPicPr/>
          <p:nvPr/>
        </p:nvPicPr>
        <p:blipFill>
          <a:blip r:embed="rId2"/>
          <a:stretch/>
        </p:blipFill>
        <p:spPr>
          <a:xfrm>
            <a:off x="4286160" y="18572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29 CuadroTexto"/>
          <p:cNvSpPr/>
          <p:nvPr/>
        </p:nvSpPr>
        <p:spPr>
          <a:xfrm>
            <a:off x="1357200" y="528624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K1 = K2 = 0.005; K3 = 0.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3:13:25Z</dcterms:created>
  <dc:creator>todos</dc:creator>
  <dc:description/>
  <dc:language>en-US</dc:language>
  <cp:lastModifiedBy>todos</cp:lastModifiedBy>
  <dcterms:modified xsi:type="dcterms:W3CDTF">2007-10-25T06:12:55Z</dcterms:modified>
  <cp:revision>18</cp:revision>
  <dc:subject/>
  <dc:title>Diapositiva 1</dc:title>
</cp:coreProperties>
</file>